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DD28C-13E1-4369-B351-A9C3B1053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3FD7C-D00C-459C-B8BF-C6C4FC75E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5456E-2A04-4F1D-B622-9C5F976F1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AD6D-A256-483A-9379-9F7F206B15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11C68-E671-4466-BF18-1FBD1AE863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C2140-4ACE-44BC-BD60-2DB0C3DED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F36E-AE42-49DD-9E9D-E3AAA202F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3120E-89AA-4340-B816-82121BCC4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BA223-407B-4723-A433-8935C14B4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17275-C9AA-4CAE-A539-2C85BA45C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1D28-E44D-4F0D-BFD6-48A961719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E64BD-A61E-4ECB-80E6-325E1A918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.2-</a:t>
            </a:r>
            <a:fld id="{527F88BF-F901-4600-8FE9-51712B8DC3D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2560" y="1622520"/>
            <a:ext cx="782640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146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already learned familiar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ommands and formal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ted/uste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ommands. You will now lear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otros/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s, which are used to give ord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suggestions that include yourself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6560" y="1538280"/>
            <a:ext cx="1676520" cy="56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540AB-18F4-44C8-A984-A039A58679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otros/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s correspond to the Englis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ffirmative and negat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otros/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s are generally formed by using the first-person plural form of the present subjun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4489560"/>
            <a:ext cx="7315200" cy="82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63BE9-5B8D-4DA2-BC1D-505E5C96C1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07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ffirmati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’s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command may also be expressed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mo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. Remember, however,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mo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can also me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 are going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Context and tone of voice determine which meaning is being expres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4710240"/>
            <a:ext cx="7315200" cy="68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25E7-E3FA-4208-B944-44598A03DC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r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’s 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present indicative form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m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used, not the subjunctive. For the negative command, however, the subjunctive is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3641760"/>
            <a:ext cx="7315200" cy="458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0120" y="4165560"/>
            <a:ext cx="7908840" cy="22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EF34-2024-4761-9CBD-1D0A6A26AF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1400" y="1658880"/>
            <a:ext cx="777240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¡Atenció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tached to an affirmat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otros/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, the fin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ropped from the verb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témonos all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moselo a el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démoselo a el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otros/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form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go a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ámo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ts negativ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nos vayam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C1ADE-6807-4C04-B059-C364C0754D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pronouns are always attach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ffirmat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otros/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s. A written accent is added to maintain the original s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3730680"/>
            <a:ext cx="7315200" cy="77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9C395-504B-4261-B063-B3ADFC5336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pronouns are placed in front of negat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sotros/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3052800"/>
            <a:ext cx="7315200" cy="46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F9A0D-13AB-41AA-A10A-3863019DD3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39560" y="1514520"/>
            <a:ext cx="2438640" cy="6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428760" y="2179800"/>
          <a:ext cx="8286480" cy="3249360"/>
        </p:xfrm>
        <a:graphic>
          <a:graphicData uri="http://schemas.openxmlformats.org/drawingml/2006/table">
            <a:tbl>
              <a:tblPr/>
              <a:tblGrid>
                <a:gridCol w="4143240"/>
                <a:gridCol w="4143240"/>
              </a:tblGrid>
              <a:tr h="1097640">
                <a:tc gridSpan="2"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 los mandatos afirmativos y negativos de la primera persona del plural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/a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de estos verb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260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studiar 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enar 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leer 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decidir 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decir 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cerrar 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levantarse 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irse 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108160" y="3095640"/>
            <a:ext cx="4756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ff"/>
                </a:solidFill>
                <a:latin typeface="Comic Sans MS"/>
              </a:rPr>
              <a:t>estudiemos, </a:t>
            </a:r>
            <a:br>
              <a:rPr sz="2100"/>
            </a:br>
            <a:r>
              <a:rPr b="1" lang="en-US" sz="2100" spc="-1" strike="noStrike">
                <a:solidFill>
                  <a:srgbClr val="0080ff"/>
                </a:solidFill>
                <a:latin typeface="Comic Sans MS"/>
              </a:rPr>
              <a:t>no estudiem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74B1A-552A-4A76-892B-3F0C294EFB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awagner</cp:lastModifiedBy>
  <dcterms:modified xsi:type="dcterms:W3CDTF">2007-03-29T17:33:16Z</dcterms:modified>
  <cp:revision>78</cp:revision>
  <dc:subject/>
  <dc:title>PowerPoint Presentation</dc:title>
</cp:coreProperties>
</file>